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8FF6-9A09-4C2E-BDDB-4CB42CC99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E33E-4BD5-465C-855F-1F801EF15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910B-F2C6-4D23-B02A-7E1B4AE61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3CBF-0B1A-4702-B43D-ABE4D39E8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FF860-2E5B-4FA7-8FE6-1411C6F11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C9B09-8F7D-4505-8AA1-072015CCA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DD55D-80BA-4330-8B78-416B0A6DB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248FC-630B-4964-8AE3-1BDC30EB5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1133F-0DD1-48EF-8520-03A787E38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E275D-2904-4A03-A798-DA90E4FA1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EBDBF-FFFA-48D1-9C83-266357DB1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9A3F-EFD6-4FF5-AFAB-54458169E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74A87-878A-4C65-A788-490B0F7E4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40E4A-4C8F-4A1E-B579-F4A985135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8231D-E72F-4C64-9984-2CC416474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DB85E-EC42-4A20-BD08-2DC189F67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8A615-B774-4280-9A5F-FEDC7DD05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FCAA-8C95-4DE0-93B6-E33CF6F75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F689-4223-47DD-8F0E-4A14394D6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0F14-15CD-4892-AB95-62A453016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8BC87-638D-4262-AB92-18238E621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2357-6DC9-4737-880D-A011B75B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46121-1787-442A-889C-78D4DC959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402F-323A-4DE1-BF53-CDBA7BEEB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1028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1029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B625E-FD30-4B7A-B351-09E49286CE85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6F537-2C8F-4AFE-A2AE-562C2FB16BA3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임상관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933560"/>
            <a:ext cx="7772400" cy="35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½Å¸íÁ¶"/>
              </a:rPr>
              <a:t>Meryl</a:t>
            </a:r>
            <a:r>
              <a:rPr b="0" lang="en-US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½Å¸íÁ¶"/>
                <a:ea typeface="신명조"/>
              </a:rPr>
              <a:t>J. Wall  &amp;  Florence L. Myer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권 도  하 역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신명조"/>
                <a:ea typeface="신명조"/>
              </a:rPr>
              <a:t>한국언어치료학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절충주의적인 관점을 발전시킴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자료에서 이끌어낸 요소들을 결합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여러 가지 학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스타일 등에서 가장 좋다고 생각되는 것을 선택하는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절충의 필요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본질과 치료에 관하여 많은 진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 한가지의 만족스러운 방법 없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영원히 불가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너무나 다양해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한가지 틀 속에 집어넣을 수가 없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측면에서 말더듬이들의 유사성에 따라 나눌 수는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절충적인 접근법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풍부한 이론적인 근거와 실험연구에서 유도해 낸 매우 잘 증명된 원리에 근거해야 한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 원리에 근거를 두어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가 나타내는 특정한 증후를 검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증후와 치료를 가장 적합하게 연결시키기 위하여 철저한 연구를 한 후에야 도달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이론없이 아무렇게나 여러 가지 치료기법들을 혼합한 것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장애라고 가장 많이 정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리듬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흐름이 깨어져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시간 맞추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리듬이 부적당한 패턴으로 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청각적 및 시각적 장애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향적 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+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시각적인 실마리라는 견지에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 및 청자의 반응이란 견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대한 기준은 객관적 및 주관적인 속성으로 이루어짐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병리적인 비유창성과 정상적인 비유창성을 구별하는 일은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유 창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속도에 대한 일반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체적인 비율 형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각 음과 음절의 지속 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의 지속시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세대조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stress contrast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의 정도 등에 영향 받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용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본서에서는 중립적인 뜻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저자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반대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18" name="00418-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정상적인 비유창성</a:t>
            </a: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고딕"/>
              </a:rPr>
              <a:t>(nonfluency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정도의 유창성 깨어짐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fluency disruption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상적인 구어 및 언어 발달 과정에 수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정상적인 깨어짐의 일부분으로서 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예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삽입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 반복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쉼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수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말더듬과 병리적인 비유창성</a:t>
            </a:r>
            <a:br>
              <a:rPr sz="4000"/>
            </a:br>
            <a:r>
              <a:rPr b="1" lang="en-US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(dysfluency or disfluency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또는 단어가 운동적으로 깨어짐으로써 또는 화자가 거기에 반응함으로써 앞으로 흘러나오는 말의 흐름이 깨어질 때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속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강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억양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음 외에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자의 안면 표정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세 조정 등을 포함하는 어떤 비음성적 특징 등과 같은 변수들에 영향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병리적인 비유창성의 결과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지연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방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노력하는 것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불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협응 </a:t>
            </a: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과 같은 특징이 나타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어보다 더 작은 발화 단위의 반복과 연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의 흐름이나 비율에서의 비정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평가 및 치료를 위한</a:t>
            </a:r>
            <a:br>
              <a:rPr sz="4400"/>
            </a:br>
            <a:r>
              <a:rPr b="1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3</a:t>
            </a: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요인 모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여러 가지 요인들 사이의 통합 혹은 협응의 결핍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폭넓고 절충적인 관점을 반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에 관한 정보를 조직하기 위한 모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yers &amp; Well, 1982)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요인들과 아동기 말더듬의 임상적인 관리와 관련된 각 요인들간의 변인들을 나타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느 두 가지 요인들이 상호결합하면 한 요인이 다른 요인에 영향을 미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언어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운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화의 목적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기타 의미있는 성인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담화의 사회적 하중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생리학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OT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VI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 및 후두부의 긴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자율신경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제</a:t>
            </a:r>
            <a:r>
              <a:rPr b="0" lang="en-US" sz="4400" spc="-1" strike="noStrike">
                <a:solidFill>
                  <a:srgbClr val="ffcc66"/>
                </a:solidFill>
                <a:latin typeface="HCI Poppy"/>
                <a:ea typeface="휴먼명조"/>
              </a:rPr>
              <a:t>1</a:t>
            </a: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장  서    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기 말더듬을 치료하는 임상가의 자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의 어려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Wendell Johnson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글을 인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내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를 할 수록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치료에 관한 어떠한 치료적인 생각도 수용하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따라서 말더듬 치료 방법이 수없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시적 흥미 이상의 치료 성공을 거두는 방법들이 많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6" name="0043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용 글이 주는 교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Van Riper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와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Johnson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은 말더듬 분야의 대표적인 인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현상에 대단히 겸허하게 접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단기간 치료 약속은 신중히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연구가 많이 발전되어 왔음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나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와 임상실제에의 적용 사이에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 : 1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상관관계를 이루는 유일한 치료 프로그램은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말더듬 치료사의 자질</a:t>
            </a: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말더듬에 관한 폭넓게 기초한 관점을 가질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리한 관찰기술을 기를 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임상기법을 발전시키기 위하여 이론과 연구를 바르게 이해할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절충주의적인 관점을 발전시킬 것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1" name="00434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복잡하고 다차원적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과 구어산출 시스템 사이의 상호관계 이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호흡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동시조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Van Riper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시간장애라고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핵심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절과 단어들의 운동형태가 일시적으로 깨어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두의 지나친 긴장과 구어산출의 기초 영역과의 장애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말더듬에 관한 폭넓은 기초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명조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와 말더듬 사이의 상호관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발달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음운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미론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화용론적 등의 발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산출 시스템이 발달하고 기간에 이루어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유창성 등의 발달 사이의 상호작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사회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리학적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언어학적 등의 변인들을 고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HCI Hollyhock"/>
                <a:ea typeface="휴먼명조"/>
              </a:rPr>
              <a:t>2. </a:t>
            </a: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예리한 관찰기술을 기를 것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은 대단히 복잡하고 다면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multifaceted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인 현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에 영향을 미치는 요인에 관한 풍부한 지식을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엄격하고 철저하게 관찰하고 서술하는 것이 중요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 행동을 신뢰도와 타당도가 높게 관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찰상의 개인내 차와 개인간 차가 허용오차 범위 내에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cc66"/>
                </a:solidFill>
                <a:latin typeface="휴먼고딕"/>
                <a:ea typeface="휴먼고딕"/>
              </a:rPr>
              <a:t>임상기법의 발전을 위한 이론과 연구를 바르게 이해할 것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생들의 특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것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&lt;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실제적인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문적 깊이 없는 실제는 위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적인 통찰력과 연구발견점에 대한 지식에서 많은 것을 얻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훌륭한 연구는 풍부한 이론에서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러한 연구자료에 근거할 때 좋은 임상적인 방책들이 나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론과 실제는 일방적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unidirectional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관계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0:06:49Z</dcterms:created>
  <dc:creator>황규탁</dc:creator>
  <dc:description/>
  <dc:language>en-US</dc:language>
  <cp:lastModifiedBy>user</cp:lastModifiedBy>
  <dcterms:modified xsi:type="dcterms:W3CDTF">2013-11-13T06:42:09Z</dcterms:modified>
  <cp:revision>34</cp:revision>
  <dc:subject/>
  <dc:title>말더듬 임상관리</dc:title>
</cp:coreProperties>
</file>